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media11.m4a" ContentType="audio/mp4"/>
  <Override PartName="/ppt/media/image10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C53755-2F2E-4B00-8A74-493F7BCE3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46320" y="1085760"/>
            <a:ext cx="3908160" cy="293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40080" y="4180680"/>
            <a:ext cx="5120280" cy="342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4"/>
          </p:nvPr>
        </p:nvSpPr>
        <p:spPr>
          <a:xfrm>
            <a:off x="3625560" y="8250840"/>
            <a:ext cx="2773440" cy="43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2B9D06-643E-4327-8322-E1DB0EBB8941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46320" y="1085760"/>
            <a:ext cx="3908160" cy="293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40080" y="4180680"/>
            <a:ext cx="5120280" cy="342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＊改查專業詞彙或生難單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0"/>
          </p:nvPr>
        </p:nvSpPr>
        <p:spPr>
          <a:xfrm>
            <a:off x="3625560" y="8250840"/>
            <a:ext cx="2773440" cy="43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81A372-AE02-4E23-A5A7-34427C17DC94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46320" y="1085760"/>
            <a:ext cx="3908160" cy="293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40080" y="4180680"/>
            <a:ext cx="5120280" cy="342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＊生成全句發音範例語音檔，並加入到圖示連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1"/>
          </p:nvPr>
        </p:nvSpPr>
        <p:spPr>
          <a:xfrm>
            <a:off x="3625560" y="8250840"/>
            <a:ext cx="2773440" cy="43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3DC694-878D-4240-9524-8B0C94462E99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46320" y="1085760"/>
            <a:ext cx="3908160" cy="293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40080" y="4180680"/>
            <a:ext cx="5120280" cy="342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3625560" y="8250840"/>
            <a:ext cx="2773440" cy="43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B92AFE-2B3A-4FB2-870A-08F5BE45D8D3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46320" y="1085760"/>
            <a:ext cx="3908160" cy="293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40080" y="4180680"/>
            <a:ext cx="5120280" cy="342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信心提升數據：　評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~7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顆愛心的人，佔總數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%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問卷調查中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4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人中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0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0%)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覺得閱讀速度有兩級以上的提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3"/>
          </p:nvPr>
        </p:nvSpPr>
        <p:spPr>
          <a:xfrm>
            <a:off x="3625560" y="8250840"/>
            <a:ext cx="2773440" cy="43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636B81-CEDC-4DA1-A3C5-2E6641618B75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276C-3F7F-4023-AEAD-0F28BB22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C91-A732-4880-9C5D-81A071E3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D2B-7C90-4BDE-84DF-DADD2BD9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E59-666F-43B1-B484-377D6019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AD92-176F-4B12-985A-A68663F0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088D-D3C2-4905-8787-103F5A97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CD5F-107E-46EC-8596-97DEA5CF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598C-5B94-4EE2-80F6-8511EBE9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52C9-F4FE-44AC-8F35-09BDC4C0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ADFC-CD88-491E-ADE3-59898759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45F5-12ED-461F-8FE9-357E8129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DAD-6DDD-4DEE-81ED-95F62EF0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D2D4-45F1-4124-B7A3-17C0658F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C550-06E3-4759-A3CA-C490ACA3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9E65-CF3E-48BB-B431-BFD1ADF4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1258-D326-46AC-884A-174B9692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58C2-E81E-45D0-A485-CDF2389C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43F-DB1C-418A-BA22-18E456C8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FE4-E2AB-44B9-BFED-214887BD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88E-D576-4924-BB7E-2C321FEE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4D6-61F1-40F8-BFD7-C0B003EF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9EB-F103-41ED-AC34-FEB71543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107-0F1A-425E-90E3-1255B9BC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F63-B418-4D7B-9D08-AFB6B315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2A4888-E45A-4FEB-95CD-FF045FA8D7F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D47279-DAB1-40F4-80FA-B5E59E1A5B5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media11.m4a"/><Relationship Id="rId4" Type="http://schemas.microsoft.com/office/2007/relationships/media" Target="../media/media11.m4a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33cc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7640" y="2061000"/>
            <a:ext cx="683820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ParrotTalks PDF</a:t>
            </a:r>
            <a:r>
              <a:rPr b="1" lang="zh-TW" sz="36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查詢筆</a:t>
            </a:r>
            <a:br>
              <a:rPr sz="3600"/>
            </a:br>
            <a:r>
              <a:rPr b="1" lang="zh-TW" sz="32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閱讀英文論文的加速器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46720" y="5949360"/>
            <a:ext cx="2758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sammy@apexlear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圖片 10" descr=""/>
          <p:cNvPicPr/>
          <p:nvPr/>
        </p:nvPicPr>
        <p:blipFill>
          <a:blip r:embed="rId1"/>
          <a:srcRect l="0" t="0" r="3692" b="35950"/>
          <a:stretch/>
        </p:blipFill>
        <p:spPr>
          <a:xfrm>
            <a:off x="4096080" y="3625200"/>
            <a:ext cx="3638160" cy="325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652000" y="2781000"/>
            <a:ext cx="3171960" cy="17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Lab</a:t>
            </a: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版特約方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Lab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特別版，除包含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Pro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版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(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原價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$1499/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年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)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所有功能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外，再加送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專屬的會員每週閱讀成效報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即日起到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16/6/30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止，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開放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Lab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版特約方案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提供實驗室訂購；一次訂購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5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個以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帳戶，即可享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Lab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專案優惠價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圖片 9" descr=""/>
          <p:cNvPicPr/>
          <p:nvPr/>
        </p:nvPicPr>
        <p:blipFill>
          <a:blip r:embed="rId1"/>
          <a:stretch/>
        </p:blipFill>
        <p:spPr>
          <a:xfrm>
            <a:off x="5796000" y="3573000"/>
            <a:ext cx="2692440" cy="2864520"/>
          </a:xfrm>
          <a:prstGeom prst="rect">
            <a:avLst/>
          </a:prstGeom>
          <a:ln w="0">
            <a:noFill/>
          </a:ln>
        </p:spPr>
      </p:pic>
      <p:pic>
        <p:nvPicPr>
          <p:cNvPr id="157" name="圖片 10" descr=""/>
          <p:cNvPicPr/>
          <p:nvPr/>
        </p:nvPicPr>
        <p:blipFill>
          <a:blip r:embed="rId2"/>
          <a:stretch/>
        </p:blipFill>
        <p:spPr>
          <a:xfrm>
            <a:off x="2902680" y="3573000"/>
            <a:ext cx="2692440" cy="2864520"/>
          </a:xfrm>
          <a:prstGeom prst="rect">
            <a:avLst/>
          </a:prstGeom>
          <a:ln w="0">
            <a:noFill/>
          </a:ln>
        </p:spPr>
      </p:pic>
      <p:pic>
        <p:nvPicPr>
          <p:cNvPr id="158" name="圖片 11" descr=""/>
          <p:cNvPicPr/>
          <p:nvPr/>
        </p:nvPicPr>
        <p:blipFill>
          <a:blip r:embed="rId3"/>
          <a:stretch/>
        </p:blipFill>
        <p:spPr>
          <a:xfrm>
            <a:off x="571320" y="3933000"/>
            <a:ext cx="213048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3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33cc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80808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925000"/>
            <a:ext cx="91436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讓實驗室成員，一起體驗暢讀論文的樂趣！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立即與我們聯絡：</a:t>
            </a:r>
            <a:br>
              <a:rPr sz="2400"/>
            </a:br>
            <a:br>
              <a:rPr sz="3200"/>
            </a:br>
            <a:r>
              <a:rPr b="0" lang="zh-TW" sz="3200" spc="-1" strike="noStrike">
                <a:solidFill>
                  <a:srgbClr val="008080"/>
                </a:solidFill>
                <a:latin typeface="微軟正黑體"/>
                <a:ea typeface="微軟正黑體"/>
              </a:rPr>
              <a:t>龍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sammy@apexlearn.com</a:t>
            </a:r>
            <a:br>
              <a:rPr sz="32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群組 7"/>
          <p:cNvGrpSpPr/>
          <p:nvPr/>
        </p:nvGrpSpPr>
        <p:grpSpPr>
          <a:xfrm>
            <a:off x="3924000" y="1196640"/>
            <a:ext cx="1223640" cy="1223640"/>
            <a:chOff x="3924000" y="1196640"/>
            <a:chExt cx="1223640" cy="1223640"/>
          </a:xfrm>
        </p:grpSpPr>
        <p:pic>
          <p:nvPicPr>
            <p:cNvPr id="162" name="圖片 8" descr=""/>
            <p:cNvPicPr/>
            <p:nvPr/>
          </p:nvPicPr>
          <p:blipFill>
            <a:blip r:embed="rId1"/>
            <a:stretch/>
          </p:blipFill>
          <p:spPr>
            <a:xfrm>
              <a:off x="3924000" y="1196640"/>
              <a:ext cx="1223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橢圓 9"/>
            <p:cNvSpPr/>
            <p:nvPr/>
          </p:nvSpPr>
          <p:spPr>
            <a:xfrm>
              <a:off x="4124880" y="1384920"/>
              <a:ext cx="878760" cy="88272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透過英語，掌握最新研究動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5920" y="1772640"/>
            <a:ext cx="8229240" cy="38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堅實研究基礎，從掌握領域最新發展開始；而近年來，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英語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已逐漸成為科學研究的共通語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全世界最大的論文索引及摘要資料庫，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Scopus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目前登載了超過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1,500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份期刊；其中有近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80%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以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英語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為主要語言。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微軟正黑體"/>
                <a:ea typeface="微軟正黑體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儘管如此，以英語為母語的人僅占全球人口的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5.5%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；語言的隔閡，成為許多人獲取新知的門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27640" y="6201720"/>
            <a:ext cx="8478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a6a6a6"/>
              </a:buClr>
              <a:buFont typeface="StarSymbol"/>
              <a:buAutoNum type="arabicParenR"/>
            </a:pPr>
            <a:r>
              <a:rPr b="0" i="1" lang="en-US" sz="1050" spc="-1" strike="noStrike">
                <a:solidFill>
                  <a:srgbClr val="a6a6a6"/>
                </a:solidFill>
                <a:latin typeface="Calibri"/>
              </a:rPr>
              <a:t>https://www.elsevier.com/__data/assets/pdf_file/0007/69451/scopus_content_coverage_guide.pdf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6a6a6"/>
              </a:buClr>
              <a:buFont typeface="StarSymbol"/>
              <a:buAutoNum type="arabicParenR"/>
            </a:pPr>
            <a:r>
              <a:rPr b="0" i="1" lang="en-US" sz="1050" spc="-1" strike="noStrike">
                <a:solidFill>
                  <a:srgbClr val="a6a6a6"/>
                </a:solidFill>
                <a:latin typeface="Calibri"/>
              </a:rPr>
              <a:t>http://www.uis.unesco.org/Library/Documents/evaluating-language-statistics-ethnologue-beyond-culture-2006-en.pdf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newsimg.bbc.co.uk/media/images/44350000/jpg/_44350383_naturecover_203.jpg"/>
          <p:cNvPicPr/>
          <p:nvPr/>
        </p:nvPicPr>
        <p:blipFill>
          <a:blip r:embed="rId1"/>
          <a:stretch/>
        </p:blipFill>
        <p:spPr>
          <a:xfrm>
            <a:off x="2616120" y="1340640"/>
            <a:ext cx="1870560" cy="230400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97" name="Picture 12" descr="http://digital.comsoc.org/sites/all/files/lpcoverimage/April-Commag-2016-Cover.jpg"/>
          <p:cNvPicPr/>
          <p:nvPr/>
        </p:nvPicPr>
        <p:blipFill>
          <a:blip r:embed="rId2"/>
          <a:stretch/>
        </p:blipFill>
        <p:spPr>
          <a:xfrm>
            <a:off x="6955200" y="1340640"/>
            <a:ext cx="1720800" cy="230400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</p:spPr>
      </p:pic>
      <p:pic>
        <p:nvPicPr>
          <p:cNvPr id="98" name="Picture 16" descr="https://s-media-cache-ak0.pinimg.com/736x/04/b8/3e/04b83e515f4f85366c20a11a4bb72d7a.jpg"/>
          <p:cNvPicPr/>
          <p:nvPr/>
        </p:nvPicPr>
        <p:blipFill>
          <a:blip r:embed="rId3"/>
          <a:stretch/>
        </p:blipFill>
        <p:spPr>
          <a:xfrm>
            <a:off x="4830840" y="1340640"/>
            <a:ext cx="1775880" cy="230400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99" name="圖片 6" descr=""/>
          <p:cNvPicPr/>
          <p:nvPr/>
        </p:nvPicPr>
        <p:blipFill>
          <a:blip r:embed="rId4"/>
          <a:stretch/>
        </p:blipFill>
        <p:spPr>
          <a:xfrm>
            <a:off x="465480" y="1340640"/>
            <a:ext cx="180684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生難字，阻礙了非母語人士的流暢閱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研究顯示，文章中有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2%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以上的生難字時，讀者閱讀時即會有顯著障礙；若超過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5%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閱讀速度大幅降低、甚至選擇放棄。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微軟正黑體"/>
                <a:ea typeface="微軟正黑體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相較於無生難字的情況，讀者閱讀時，根據生難字的比例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2-5%)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所花費的時間會多出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1.2~3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倍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hape 178"/>
          <p:cNvSpPr/>
          <p:nvPr/>
        </p:nvSpPr>
        <p:spPr>
          <a:xfrm>
            <a:off x="3827880" y="6016320"/>
            <a:ext cx="3664440" cy="4885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spAutoFit/>
          </a:bodyPr>
          <a:p>
            <a:pPr>
              <a:lnSpc>
                <a:spcPct val="120000"/>
              </a:lnSpc>
            </a:pPr>
            <a:endParaRPr b="0" lang="en-US" sz="2000" spc="-1" strike="noStrike">
              <a:solidFill>
                <a:srgbClr val="666666"/>
              </a:solidFill>
              <a:latin typeface="Calibri"/>
              <a:ea typeface="Source Sans Pro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6014880" y="5924160"/>
            <a:ext cx="2756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050" spc="-1" strike="noStrike">
                <a:solidFill>
                  <a:srgbClr val="a6a6a6"/>
                </a:solidFill>
                <a:latin typeface="Calibri"/>
              </a:rPr>
              <a:t>(3)  Hu, M., &amp; Nation, I.S.P. (2000). “Vocabulary density and reading comprehension” Reading in a Foreign Language, 13(1), 403–430.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圖片 9" descr=""/>
          <p:cNvPicPr/>
          <p:nvPr/>
        </p:nvPicPr>
        <p:blipFill>
          <a:blip r:embed="rId1"/>
          <a:srcRect l="0" t="0" r="3692" b="39229"/>
          <a:stretch/>
        </p:blipFill>
        <p:spPr>
          <a:xfrm>
            <a:off x="1235880" y="3080880"/>
            <a:ext cx="4392000" cy="3732120"/>
          </a:xfrm>
          <a:prstGeom prst="rect">
            <a:avLst/>
          </a:prstGeom>
          <a:ln w="0">
            <a:solidFill>
              <a:srgbClr val="ffffff">
                <a:lumMod val="75000"/>
              </a:srgbClr>
            </a:solidFill>
          </a:ln>
        </p:spPr>
      </p:pic>
      <p:sp>
        <p:nvSpPr>
          <p:cNvPr id="107" name="矩形 11"/>
          <p:cNvSpPr/>
          <p:nvPr/>
        </p:nvSpPr>
        <p:spPr>
          <a:xfrm>
            <a:off x="4154400" y="3854880"/>
            <a:ext cx="420840" cy="16668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矩形 23"/>
          <p:cNvSpPr/>
          <p:nvPr/>
        </p:nvSpPr>
        <p:spPr>
          <a:xfrm>
            <a:off x="3659760" y="4030560"/>
            <a:ext cx="964080" cy="17352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矩形 24"/>
          <p:cNvSpPr/>
          <p:nvPr/>
        </p:nvSpPr>
        <p:spPr>
          <a:xfrm>
            <a:off x="2773800" y="585180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矩形 25"/>
          <p:cNvSpPr/>
          <p:nvPr/>
        </p:nvSpPr>
        <p:spPr>
          <a:xfrm>
            <a:off x="1458720" y="543636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矩形 26"/>
          <p:cNvSpPr/>
          <p:nvPr/>
        </p:nvSpPr>
        <p:spPr>
          <a:xfrm>
            <a:off x="2559240" y="533952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矩形 27"/>
          <p:cNvSpPr/>
          <p:nvPr/>
        </p:nvSpPr>
        <p:spPr>
          <a:xfrm>
            <a:off x="5004000" y="571068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矩形 28"/>
          <p:cNvSpPr/>
          <p:nvPr/>
        </p:nvSpPr>
        <p:spPr>
          <a:xfrm>
            <a:off x="4697280" y="642888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矩形 29"/>
          <p:cNvSpPr/>
          <p:nvPr/>
        </p:nvSpPr>
        <p:spPr>
          <a:xfrm>
            <a:off x="4605480" y="612684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矩形 30"/>
          <p:cNvSpPr/>
          <p:nvPr/>
        </p:nvSpPr>
        <p:spPr>
          <a:xfrm>
            <a:off x="4191840" y="6126840"/>
            <a:ext cx="327960" cy="13968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矩形 39"/>
          <p:cNvSpPr/>
          <p:nvPr/>
        </p:nvSpPr>
        <p:spPr>
          <a:xfrm>
            <a:off x="2164680" y="6027480"/>
            <a:ext cx="481680" cy="1443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矩形 40"/>
          <p:cNvSpPr/>
          <p:nvPr/>
        </p:nvSpPr>
        <p:spPr>
          <a:xfrm>
            <a:off x="2732040" y="6126840"/>
            <a:ext cx="379440" cy="15732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矩形 41"/>
          <p:cNvSpPr/>
          <p:nvPr/>
        </p:nvSpPr>
        <p:spPr>
          <a:xfrm>
            <a:off x="2895840" y="5549760"/>
            <a:ext cx="600840" cy="10548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矩形 42"/>
          <p:cNvSpPr/>
          <p:nvPr/>
        </p:nvSpPr>
        <p:spPr>
          <a:xfrm>
            <a:off x="3543480" y="5436360"/>
            <a:ext cx="288720" cy="124560"/>
          </a:xfrm>
          <a:prstGeom prst="rect">
            <a:avLst/>
          </a:prstGeom>
          <a:solidFill>
            <a:srgbClr val="99ff33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0" name="群組 2048"/>
          <p:cNvGrpSpPr/>
          <p:nvPr/>
        </p:nvGrpSpPr>
        <p:grpSpPr>
          <a:xfrm>
            <a:off x="4826520" y="2902680"/>
            <a:ext cx="2985480" cy="1541160"/>
            <a:chOff x="4826520" y="2902680"/>
            <a:chExt cx="2985480" cy="1541160"/>
          </a:xfrm>
        </p:grpSpPr>
        <p:sp>
          <p:nvSpPr>
            <p:cNvPr id="121" name="橢圓形圖說文字 2047"/>
            <p:cNvSpPr/>
            <p:nvPr/>
          </p:nvSpPr>
          <p:spPr>
            <a:xfrm>
              <a:off x="5297400" y="3026160"/>
              <a:ext cx="2115720" cy="1247760"/>
            </a:xfrm>
            <a:prstGeom prst="wedgeEllipseCallout">
              <a:avLst>
                <a:gd name="adj1" fmla="val -37215"/>
                <a:gd name="adj2" fmla="val 62500"/>
              </a:avLst>
            </a:prstGeom>
            <a:solidFill>
              <a:srgbClr val="33cc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橢圓 47"/>
            <p:cNvSpPr/>
            <p:nvPr/>
          </p:nvSpPr>
          <p:spPr>
            <a:xfrm>
              <a:off x="4826520" y="2902680"/>
              <a:ext cx="2985480" cy="154116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TW" sz="2000" spc="-1" strike="noStrike">
                  <a:solidFill>
                    <a:srgbClr val="ffffff"/>
                  </a:solidFill>
                  <a:latin typeface="微軟正黑體"/>
                  <a:ea typeface="微軟正黑體"/>
                </a:rPr>
                <a:t>單字難度</a:t>
              </a:r>
              <a:br>
                <a:rPr sz="1600"/>
              </a:br>
              <a:r>
                <a:rPr b="0" lang="en-US" sz="3200" spc="-1" strike="noStrike">
                  <a:solidFill>
                    <a:srgbClr val="ffc000"/>
                  </a:solidFill>
                  <a:latin typeface="Wingdings"/>
                  <a:ea typeface="微軟正黑體"/>
                </a:rPr>
                <a:t>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el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0440" y="3501000"/>
            <a:ext cx="8229240" cy="21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1" lang="en-US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PDF 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查詢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迅速攻克生字障礙，專心理解研究內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0" y="4581000"/>
            <a:ext cx="914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TW" sz="1600" spc="-1" strike="noStrike">
                <a:solidFill>
                  <a:srgbClr val="595959"/>
                </a:solidFill>
                <a:latin typeface="微軟正黑體"/>
                <a:ea typeface="微軟正黑體"/>
              </a:rPr>
              <a:t>超過</a:t>
            </a:r>
            <a:r>
              <a:rPr b="0" lang="en-US" sz="1600" spc="-1" strike="noStrike">
                <a:solidFill>
                  <a:srgbClr val="595959"/>
                </a:solidFill>
                <a:latin typeface="微軟正黑體"/>
                <a:ea typeface="微軟正黑體"/>
              </a:rPr>
              <a:t>4</a:t>
            </a:r>
            <a:r>
              <a:rPr b="0" lang="zh-TW" sz="1600" spc="-1" strike="noStrike">
                <a:solidFill>
                  <a:srgbClr val="595959"/>
                </a:solidFill>
                <a:latin typeface="微軟正黑體"/>
                <a:ea typeface="微軟正黑體"/>
              </a:rPr>
              <a:t>萬人使用，獲</a:t>
            </a:r>
            <a:r>
              <a:rPr b="0" lang="en-US" sz="1600" spc="-1" strike="noStrike">
                <a:solidFill>
                  <a:srgbClr val="595959"/>
                </a:solidFill>
                <a:latin typeface="微軟正黑體"/>
                <a:ea typeface="微軟正黑體"/>
              </a:rPr>
              <a:t>Chrome Web Store 4.62</a:t>
            </a:r>
            <a:r>
              <a:rPr b="0" lang="zh-TW" sz="1600" spc="-1" strike="noStrike">
                <a:solidFill>
                  <a:srgbClr val="595959"/>
                </a:solidFill>
                <a:latin typeface="微軟正黑體"/>
                <a:ea typeface="微軟正黑體"/>
              </a:rPr>
              <a:t>顆星特優評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618280" y="1556640"/>
            <a:ext cx="3476520" cy="1872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-36360" y="6260760"/>
            <a:ext cx="918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TW" sz="1400" spc="-1" strike="noStrike">
                <a:solidFill>
                  <a:srgbClr val="808080"/>
                </a:solidFill>
                <a:latin typeface="微軟正黑體"/>
                <a:ea typeface="微軟正黑體"/>
              </a:rPr>
              <a:t>網頁連結：</a:t>
            </a:r>
            <a:r>
              <a:rPr b="0" lang="en-US" sz="1400" spc="-1" strike="noStrike">
                <a:solidFill>
                  <a:srgbClr val="808080"/>
                </a:solidFill>
                <a:latin typeface="微軟正黑體"/>
                <a:ea typeface="微軟正黑體"/>
              </a:rPr>
              <a:t>https://www.parrottalks.com/note/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實例展示"/>
          <p:cNvPicPr/>
          <p:nvPr/>
        </p:nvPicPr>
        <p:blipFill>
          <a:blip r:embed="rId1"/>
          <a:stretch/>
        </p:blipFill>
        <p:spPr>
          <a:xfrm>
            <a:off x="2215080" y="3573000"/>
            <a:ext cx="4713480" cy="3016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ParrotTalks - </a:t>
            </a: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即點即查的</a:t>
            </a:r>
            <a:r>
              <a:rPr b="1" lang="en-US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PDF</a:t>
            </a: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查詢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針對研究者閱讀英文論文的需求，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提供了搭配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Chrome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瀏覽器的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PDF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查詢筆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讓單詞與句子的查詢，變得簡單順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利用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Stanford NLP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核心技術的解析引擎，即點即查，提供迅速、精確的文義解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相較於其他工具，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PDF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查詢筆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將平均查詢時間由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40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秒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大幅降至</a:t>
            </a:r>
            <a:r>
              <a:rPr b="1" lang="en-US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0.1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秒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629360" y="5661360"/>
            <a:ext cx="1007640" cy="1093680"/>
          </a:xfrm>
          <a:prstGeom prst="rect">
            <a:avLst/>
          </a:prstGeom>
          <a:ln w="0">
            <a:noFill/>
          </a:ln>
        </p:spPr>
      </p:pic>
      <p:sp>
        <p:nvSpPr>
          <p:cNvPr id="134" name="矩形 5"/>
          <p:cNvSpPr/>
          <p:nvPr/>
        </p:nvSpPr>
        <p:spPr>
          <a:xfrm>
            <a:off x="7141680" y="6115680"/>
            <a:ext cx="1773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a6a6a6"/>
                </a:solidFill>
                <a:latin typeface="微軟正黑體"/>
                <a:ea typeface="微軟正黑體"/>
              </a:rPr>
              <a:t>Demo (GIF</a:t>
            </a:r>
            <a:r>
              <a:rPr b="0" lang="zh-TW" sz="1800" spc="-1" strike="noStrike">
                <a:solidFill>
                  <a:srgbClr val="a6a6a6"/>
                </a:solidFill>
                <a:latin typeface="微軟正黑體"/>
                <a:ea typeface="微軟正黑體"/>
              </a:rPr>
              <a:t>動畫</a:t>
            </a:r>
            <a:r>
              <a:rPr b="0" lang="en-US" sz="1800" spc="-1" strike="noStrike">
                <a:solidFill>
                  <a:srgbClr val="a6a6a6"/>
                </a:solidFill>
                <a:latin typeface="微軟正黑體"/>
                <a:ea typeface="微軟正黑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https://img.yumpu.com/50958278/1/358x462/paper-on-pwo-ecal-monitoring-project-for-cms-ieee-caltech.jpg"/>
          <p:cNvPicPr/>
          <p:nvPr/>
        </p:nvPicPr>
        <p:blipFill>
          <a:blip r:embed="rId1"/>
          <a:srcRect l="0" t="0" r="0" b="34474"/>
          <a:stretch/>
        </p:blipFill>
        <p:spPr>
          <a:xfrm>
            <a:off x="830880" y="2853000"/>
            <a:ext cx="4680720" cy="396900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9999"/>
              </a:buClr>
              <a:buFont typeface="Arial"/>
              <a:buChar char="•"/>
            </a:pP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學到專業語彙的正確發音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、經常練習，是克服聽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說障礙的第一步。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採先進的</a:t>
            </a:r>
            <a:r>
              <a:rPr b="1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Text-to-Speech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(TTS)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引擎，可即時聽到所選單詞或句子的標準美式發音，是</a:t>
            </a:r>
            <a:r>
              <a:rPr b="1" lang="zh-TW" sz="20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專屬的全天候發音教練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微軟正黑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ParrotTalks - </a:t>
            </a: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道地的全句美式發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6370920" y="5185080"/>
            <a:ext cx="1569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TW" sz="1800" spc="-1" strike="noStrike">
                <a:solidFill>
                  <a:srgbClr val="a6a6a6"/>
                </a:solidFill>
                <a:latin typeface="微軟正黑體"/>
                <a:ea typeface="微軟正黑體"/>
              </a:rPr>
              <a:t>點擊上方圖示聽全句發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4"/>
          <p:cNvSpPr/>
          <p:nvPr/>
        </p:nvSpPr>
        <p:spPr>
          <a:xfrm>
            <a:off x="3126600" y="5204880"/>
            <a:ext cx="1949040" cy="349560"/>
          </a:xfrm>
          <a:prstGeom prst="rect">
            <a:avLst/>
          </a:prstGeom>
          <a:solidFill>
            <a:schemeClr val="accent5">
              <a:lumMod val="40000"/>
              <a:lumOff val="60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0" name="圖片 2" descr=""/>
          <p:cNvPicPr/>
          <p:nvPr/>
        </p:nvPicPr>
        <p:blipFill>
          <a:blip r:embed="rId2"/>
          <a:stretch/>
        </p:blipFill>
        <p:spPr>
          <a:xfrm>
            <a:off x="4876920" y="4826160"/>
            <a:ext cx="398160" cy="361800"/>
          </a:xfrm>
          <a:prstGeom prst="rect">
            <a:avLst/>
          </a:prstGeom>
          <a:ln w="0">
            <a:noFill/>
          </a:ln>
        </p:spPr>
      </p:pic>
      <p:sp>
        <p:nvSpPr>
          <p:cNvPr id="141" name="橢圓 5"/>
          <p:cNvSpPr/>
          <p:nvPr/>
        </p:nvSpPr>
        <p:spPr>
          <a:xfrm>
            <a:off x="6320880" y="3349440"/>
            <a:ext cx="1656000" cy="1656000"/>
          </a:xfrm>
          <a:prstGeom prst="ellipse">
            <a:avLst/>
          </a:prstGeom>
          <a:noFill/>
          <a:ln w="76200">
            <a:solidFill>
              <a:srgbClr val="4bacc6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embed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514200" y="3567240"/>
            <a:ext cx="128304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delay="0" evt="onClick">
                    <p:tgtEl>
                      <p:spTgt spid="142"/>
                    </p:tgtEl>
                  </p:cond>
                </p:stCondLst>
                <p:childTnLst>
                  <p:par>
                    <p:cTn id="11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155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>
                  <p:stCondLst>
                    <p:cond delay="indefinite"/>
                  </p:stCondLst>
                  <p:endCondLst>
                    <p:cond delay="0" evt="onStopAudio"/>
                  </p:endCondLst>
                </p:cTn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圓角矩形 9"/>
          <p:cNvSpPr/>
          <p:nvPr/>
        </p:nvSpPr>
        <p:spPr>
          <a:xfrm>
            <a:off x="1233000" y="4515840"/>
            <a:ext cx="7056360" cy="1728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優化閱讀體驗、不再望文卻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27640" y="1700640"/>
            <a:ext cx="605880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後，閱讀一篇論文所需時間，大幅減少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40-70%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一旦上手，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92%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以上的研究生用戶每月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持續使用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輔助他們閱讀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DF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論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超過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1/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的用戶平均每週讀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篇以上論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4"/>
          <p:cNvSpPr/>
          <p:nvPr/>
        </p:nvSpPr>
        <p:spPr>
          <a:xfrm>
            <a:off x="1582200" y="4617720"/>
            <a:ext cx="66978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謝謝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提供這麼方便的</a:t>
            </a:r>
            <a:r>
              <a:rPr b="1" lang="zh-TW" sz="2800" spc="-1" strike="noStrike">
                <a:solidFill>
                  <a:srgbClr val="008080"/>
                </a:solidFill>
                <a:latin typeface="微軟正黑體"/>
                <a:ea typeface="微軟正黑體"/>
              </a:rPr>
              <a:t>論文神器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!!!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尤其是對要看很多很多英文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paper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的人來說，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真的是一大福音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!  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　　　　　　　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　　　　　　　　　　　　　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~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輔大</a:t>
            </a:r>
            <a:r>
              <a:rPr b="0" lang="zh-TW" sz="2400" spc="-1" strike="noStrike">
                <a:solidFill>
                  <a:srgbClr val="ffffff"/>
                </a:solidFill>
                <a:latin typeface="Calibri"/>
                <a:ea typeface="微軟正黑體"/>
              </a:rPr>
              <a:t>。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陳同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圖片 15" descr=""/>
          <p:cNvPicPr/>
          <p:nvPr/>
        </p:nvPicPr>
        <p:blipFill>
          <a:blip r:embed="rId1"/>
          <a:stretch/>
        </p:blipFill>
        <p:spPr>
          <a:xfrm>
            <a:off x="682200" y="1628640"/>
            <a:ext cx="180000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圓角矩形 9"/>
          <p:cNvSpPr/>
          <p:nvPr/>
        </p:nvSpPr>
        <p:spPr>
          <a:xfrm>
            <a:off x="1233000" y="4515840"/>
            <a:ext cx="7056360" cy="1728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提振面對英文的信心、從此暢快閱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32000" y="1695960"/>
            <a:ext cx="5554440" cy="43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高達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87%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的使用者認為，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大幅提升了他們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閱讀英文論文的信心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更有</a:t>
            </a:r>
            <a:r>
              <a:rPr b="1" lang="en-US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90%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的使用者認為，他們</a:t>
            </a:r>
            <a:r>
              <a:rPr b="1" lang="zh-TW" sz="24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閱讀英文論文的速度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在使用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的產品後，有明顯進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1760760" y="4735440"/>
            <a:ext cx="60008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謝謝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給了我在求學過程中，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念艱澀文章的一盞</a:t>
            </a:r>
            <a:r>
              <a:rPr b="1" lang="zh-TW" sz="2800" spc="-1" strike="noStrike">
                <a:solidFill>
                  <a:srgbClr val="008080"/>
                </a:solidFill>
                <a:latin typeface="微軟正黑體"/>
                <a:ea typeface="微軟正黑體"/>
              </a:rPr>
              <a:t>光明燈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　　　　　　　　　　　    </a:t>
            </a:r>
            <a:r>
              <a:rPr b="0" lang="en-US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~ </a:t>
            </a:r>
            <a:r>
              <a:rPr b="0" lang="zh-TW" sz="24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淡大。葉同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https://scontent-tpe1-1.xx.fbcdn.net/v/t1.0-9/1534998_338759462990103_7816893089117028313_n.jpg?oh=41c92f50bb3ca603a2599690a2fa370b&amp;oe=57D2429F"/>
          <p:cNvPicPr/>
          <p:nvPr/>
        </p:nvPicPr>
        <p:blipFill>
          <a:blip r:embed="rId1"/>
          <a:stretch/>
        </p:blipFill>
        <p:spPr>
          <a:xfrm rot="21090600">
            <a:off x="458280" y="1909440"/>
            <a:ext cx="2441160" cy="14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403640" y="980640"/>
            <a:ext cx="6552360" cy="460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基於用戶提出的</a:t>
            </a: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實驗室採購</a:t>
            </a:r>
            <a:r>
              <a:rPr b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/</a:t>
            </a: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團購</a:t>
            </a: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需求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arrotTalks</a:t>
            </a:r>
            <a:r>
              <a:rPr b="0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團隊特別推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Lab</a:t>
            </a:r>
            <a:r>
              <a:rPr b="1" lang="zh-TW" sz="3600" spc="-1" strike="noStrike">
                <a:solidFill>
                  <a:srgbClr val="009999"/>
                </a:solidFill>
                <a:latin typeface="微軟正黑體"/>
                <a:ea typeface="微軟正黑體"/>
              </a:rPr>
              <a:t>版特約方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  <Words>661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1T14:35:54Z</dcterms:created>
  <dc:creator>Carson</dc:creator>
  <dc:description/>
  <dc:language>en-US</dc:language>
  <cp:lastModifiedBy>Yenyu Chen</cp:lastModifiedBy>
  <cp:lastPrinted>2016-05-17T16:04:56Z</cp:lastPrinted>
  <dcterms:modified xsi:type="dcterms:W3CDTF">2016-05-24T16:57:17Z</dcterms:modified>
  <cp:revision>6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5</vt:r8>
  </property>
  <property fmtid="{D5CDD505-2E9C-101B-9397-08002B2CF9AE}" pid="4" name="PresentationFormat">
    <vt:lpwstr>如螢幕大小 (4:3)</vt:lpwstr>
  </property>
  <property fmtid="{D5CDD505-2E9C-101B-9397-08002B2CF9AE}" pid="5" name="Slides">
    <vt:r8>11</vt:r8>
  </property>
</Properties>
</file>